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9FD-1BDD-421A-9C4A-5763253F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A96-511B-4AAB-81F4-BF8EF9D4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4E72-BBB2-4AA0-ADBC-C1B49F9C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FCC-4151-498E-86CF-B4E648E1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9AAD6-3469-43D6-AC9A-65707B11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AB21B-E0B9-4EB2-91B8-F0782303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AD051-7195-4F35-8238-F4B8FB24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C5284-AF27-4E50-A50A-7D5767E2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1EFD5-18C3-4E30-AE0B-72D91156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4FE67-6553-4AD0-B33A-6EDCA373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86DB1-5835-414A-B1C6-EACDF0D5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887-F9A4-4D85-BF30-8EE17830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15594-D02E-4D23-850B-29863860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5A16E-7FED-4BB3-9DA8-6A08F658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7C45F-B6A7-4B4C-80C8-D8F3F9ED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69F5F-E524-405A-BD32-693E43D1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F8D70-C5F8-44DB-A135-2F21DE55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1C6-23DE-439D-9412-DD6224C8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DC6-B30B-41CA-B3FF-2FD59A4C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88CA-EC75-4F77-81D9-1622B9C1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E59-8156-43B6-9DE8-9FDA2655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621-741C-4CBE-9F27-751F352F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8A2-8B88-4174-B4A5-9236C1B4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68E-67EC-40DB-8F13-96500AC6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7D53-509D-4FA1-9E64-1A0FE870F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9DD9-B4E0-416E-9F98-3630268361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upp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iends, Family or Fo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0" y="3581280"/>
            <a:ext cx="4381560" cy="2832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438280" y="304920"/>
            <a:ext cx="42735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90920" y="396720"/>
            <a:ext cx="4190760" cy="2649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3429000"/>
            <a:ext cx="42735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43200" y="768240"/>
            <a:ext cx="3495600" cy="210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209680" y="3657600"/>
            <a:ext cx="427356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mil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5108400"/>
            <a:ext cx="2590560" cy="1749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943600" y="1371600"/>
            <a:ext cx="2590920" cy="1595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04920" y="1219320"/>
            <a:ext cx="2514600" cy="1625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867280" y="3200400"/>
            <a:ext cx="2749680" cy="177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28600" y="3200400"/>
            <a:ext cx="2743200" cy="1768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5867280" y="5059440"/>
            <a:ext cx="27813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21:57:41Z</dcterms:created>
  <dc:creator>Dan Wilson</dc:creator>
  <dc:description/>
  <dc:language>en-US</dc:language>
  <cp:lastModifiedBy>Dan Wilson</cp:lastModifiedBy>
  <dcterms:modified xsi:type="dcterms:W3CDTF">2008-01-23T22:04:58Z</dcterms:modified>
  <cp:revision>4</cp:revision>
  <dc:subject/>
  <dc:title>Guppies</dc:title>
</cp:coreProperties>
</file>